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209-47F3-4843-99BB-9C878CAD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48B-6552-4EBC-AAA7-7E803259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267-6FA6-4891-BED5-E83E7D17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9A9-75D4-493A-AEAC-3D9E50D2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A63-1EEE-456F-9FAA-917BDC3D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C1D-A07D-4EC6-9740-6B1F248E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F41-EA91-4938-8BE4-F617027A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5CA-2743-4037-BC05-39E451EF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954-1E4A-4A80-9B76-A56B8262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D90-7C10-4F4F-ACA6-13297ECC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B65-7118-45F1-A726-06BEA9C5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40D-2AFC-466C-B5AB-E20CA3A0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FD6F-B017-4478-919E-F0C7CC0C1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380880"/>
            <a:ext cx="7448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Ch. 19 Progressive Politician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57200" y="1371600"/>
            <a:ext cx="57531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forming Govern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146240" y="2895480"/>
            <a:ext cx="69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ives fight for an end to government co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Senate =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onaires Clu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ring to special interests rather than interests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itu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685800" y="4191120"/>
            <a:ext cx="2809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lection Reform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612080" y="4876920"/>
            <a:ext cx="228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d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1944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533520" y="457200"/>
            <a:ext cx="2809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ity Reform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436400" y="1103400"/>
            <a:ext cx="4801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Governme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vement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y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uel M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lden ru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Jones (Tole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m Johnson (Cleve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alveston Hurric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ty Commission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hievements &amp;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609480" y="3505320"/>
            <a:ext cx="2810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ate Reform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510200" y="4303800"/>
            <a:ext cx="328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sconsin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bert M Lafol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tates follow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429000" cy="210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457200" y="457200"/>
            <a:ext cx="57531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oosevelt &amp; the Square De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816920" y="1789200"/>
            <a:ext cx="614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dore 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ro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ttle of San Juan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e Commissi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or of 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inated to V.P. as a way of making him dis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830600" y="3352680"/>
            <a:ext cx="60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am McKinl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cted in 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assinated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rch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m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on Czolgo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62120" y="4343400"/>
            <a:ext cx="26953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Bully Pulpit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058120" y="4952880"/>
            <a:ext cx="32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ed Mine Workers Str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bi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1295280" y="5791320"/>
            <a:ext cx="27054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A Square Deal"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157968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"/>
          <p:cNvPicPr/>
          <p:nvPr/>
        </p:nvPicPr>
        <p:blipFill>
          <a:blip r:embed="rId2"/>
          <a:stretch/>
        </p:blipFill>
        <p:spPr>
          <a:xfrm>
            <a:off x="5943600" y="4114800"/>
            <a:ext cx="1911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457200" y="533520"/>
            <a:ext cx="2809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oosevelt &amp; Busines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375200" y="1219320"/>
            <a:ext cx="415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bu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sevelt Vs. the Railroad g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kins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pburn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 &amp; Drug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t Inspection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re Food &amp; Drug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141768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WordArt 8"/>
          <p:cNvSpPr txBox="1"/>
          <p:nvPr/>
        </p:nvSpPr>
        <p:spPr>
          <a:xfrm>
            <a:off x="457200" y="365760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oosevelt &amp; the Environment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524240" y="4343400"/>
            <a:ext cx="35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fford Pinch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serv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la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al Park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62600" y="5181480"/>
            <a:ext cx="545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Roosevelt &amp; frie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aside nearly 150 million acres of forest re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d the number of national p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16 national mon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d 51 national refu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1979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457200" y="457200"/>
            <a:ext cx="57531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form Under Taf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197080" y="2017800"/>
            <a:ext cx="40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am Howard T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and picked by 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ifferences existed, th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051000" y="2971800"/>
            <a:ext cx="21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n-Elkins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457200" y="3733920"/>
            <a:ext cx="3429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aft Angers Progressive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828440" y="4495680"/>
            <a:ext cx="38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ne-Aldrich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linger-Pinchot Aff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of Republi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TURN OF ROOSEVEL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6400800" y="3124080"/>
            <a:ext cx="1670040" cy="2438640"/>
          </a:xfrm>
          <a:prstGeom prst="rect">
            <a:avLst/>
          </a:prstGeom>
          <a:ln w="0">
            <a:noFill/>
          </a:ln>
        </p:spPr>
      </p:pic>
      <p:sp>
        <p:nvSpPr>
          <p:cNvPr id="74" name="WordArt 10"/>
          <p:cNvSpPr txBox="1"/>
          <p:nvPr/>
        </p:nvSpPr>
        <p:spPr>
          <a:xfrm>
            <a:off x="838080" y="6019920"/>
            <a:ext cx="73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happens when a party divides?????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6"/>
          <p:cNvSpPr/>
          <p:nvPr/>
        </p:nvSpPr>
        <p:spPr>
          <a:xfrm>
            <a:off x="1449720" y="1066680"/>
            <a:ext cx="331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ft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sevelt –Bull Moose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odrow Wilson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gene Deb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7"/>
          <p:cNvSpPr txBox="1"/>
          <p:nvPr/>
        </p:nvSpPr>
        <p:spPr>
          <a:xfrm>
            <a:off x="609480" y="457200"/>
            <a:ext cx="27054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lection of 1912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WordArt 8"/>
          <p:cNvSpPr txBox="1"/>
          <p:nvPr/>
        </p:nvSpPr>
        <p:spPr>
          <a:xfrm>
            <a:off x="685800" y="1981080"/>
            <a:ext cx="57531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ilson's "New Freedom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828080" y="3429000"/>
            <a:ext cx="408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i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wood Tariff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Reserve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yton Antitrust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Farm Loan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me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compensation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ating-Owen Child Labor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685800" y="3886200"/>
            <a:ext cx="2924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9th Amendment!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448640" y="1143000"/>
            <a:ext cx="5570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American Woman Suffrage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zabeth Cady Sta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an B. Ant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rie Chapman C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Woma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ce Pa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6"/>
          <p:cNvSpPr txBox="1"/>
          <p:nvPr/>
        </p:nvSpPr>
        <p:spPr>
          <a:xfrm>
            <a:off x="609480" y="457200"/>
            <a:ext cx="27054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men's Rights Movement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2895480" cy="2031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3276720" cy="2101680"/>
          </a:xfrm>
          <a:prstGeom prst="rect">
            <a:avLst/>
          </a:prstGeom>
          <a:ln w="0">
            <a:noFill/>
          </a:ln>
        </p:spPr>
      </p:pic>
      <p:sp>
        <p:nvSpPr>
          <p:cNvPr id="84" name="WordArt 9"/>
          <p:cNvSpPr txBox="1"/>
          <p:nvPr/>
        </p:nvSpPr>
        <p:spPr>
          <a:xfrm>
            <a:off x="838080" y="5257800"/>
            <a:ext cx="337212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w Go and Study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4:16:49Z</dcterms:created>
  <dc:creator>nalbert</dc:creator>
  <dc:description/>
  <dc:language>en-US</dc:language>
  <cp:lastModifiedBy>PA Department of Education Classrooms for the Future</cp:lastModifiedBy>
  <dcterms:modified xsi:type="dcterms:W3CDTF">2012-03-27T02:07:27Z</dcterms:modified>
  <cp:revision>21</cp:revision>
  <dc:subject/>
  <dc:title>Slide 1</dc:title>
</cp:coreProperties>
</file>